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3C9-64F3-4F56-B980-CB02B1D4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CBD-0F2E-4FC2-BEA5-A9009237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79C-A947-4E3A-BFD7-8FEE8A8A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D99-0F23-4C51-A47C-55FEF289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C529-728D-4889-9FBE-9B3F2ED2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B6E5-F83B-400F-93DB-C9DAD57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0AA-38B6-49BD-B3DB-CB0F297C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4E23-90EA-48EA-89FB-5036E634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4E22-61D9-467B-B14C-94070538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DD6-A10A-4C85-8279-9086E49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9716-A34B-4401-BDCB-B2332D3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C43-80AA-4AD3-BC1F-61F8627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1014-5254-4A66-88E2-23E9A09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BAF-04DA-4FD2-B17E-D0F5E84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52A2-F2F3-4C96-888A-2D4F2E4A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D4C6-FF2B-4633-8BB6-E4AB4C66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4109-B409-4DF6-B87A-D898C157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C33-E5E7-4052-9934-B3253F7D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E29-1243-40E0-A068-BA6CFE7B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407-13A9-45B2-985F-A63A5B07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921-AA04-4435-856C-8845F1AD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98A-CD4C-4682-9051-244B6B3D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E74-56E6-4548-AD38-386CC8F4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04B-4DC1-4A0D-9865-CFF80396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0332-75BA-4FA7-B5BA-740D14DFC020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A30-9FEA-4F53-A863-131D3A83CC5D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400800" cy="1697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Reading Strategy 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42920" y="4005000"/>
            <a:ext cx="70423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derstanding Text Organiz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4360" y="1484280"/>
          <a:ext cx="7559640" cy="5219640"/>
        </p:xfrm>
        <a:graphic>
          <a:graphicData uri="http://schemas.openxmlformats.org/drawingml/2006/table">
            <a:tbl>
              <a:tblPr/>
              <a:tblGrid>
                <a:gridCol w="1906560"/>
                <a:gridCol w="3452760"/>
                <a:gridCol w="2200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Two or mo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vents, concepts, objects or places are compared, showing how they are 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alike and/or 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verthe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milar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contr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fferent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4360" y="1484280"/>
          <a:ext cx="7414920" cy="4781520"/>
        </p:xfrm>
        <a:graphic>
          <a:graphicData uri="http://schemas.openxmlformats.org/drawingml/2006/table">
            <a:tbl>
              <a:tblPr/>
              <a:tblGrid>
                <a:gridCol w="1869840"/>
                <a:gridCol w="3386160"/>
                <a:gridCol w="2158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topic is described by listing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 characteristics, features, attributes, and examp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or 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or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uch 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s 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addi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clu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partic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4360" y="1484280"/>
          <a:ext cx="7559640" cy="4929120"/>
        </p:xfrm>
        <a:graphic>
          <a:graphicData uri="http://schemas.openxmlformats.org/drawingml/2006/table">
            <a:tbl>
              <a:tblPr/>
              <a:tblGrid>
                <a:gridCol w="1906560"/>
                <a:gridCol w="3349440"/>
                <a:gridCol w="2303640"/>
              </a:tblGrid>
              <a:tr h="93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use and 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</a:t>
                      </a:r>
                      <a:r>
                        <a:rPr b="0" lang="zh-TW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causes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an event and its </a:t>
                      </a:r>
                      <a:r>
                        <a:rPr b="0" lang="zh-TW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resulting effect(s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re pres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f/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 a 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r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s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is l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1557360"/>
          <a:ext cx="7414920" cy="3467160"/>
        </p:xfrm>
        <a:graphic>
          <a:graphicData uri="http://schemas.openxmlformats.org/drawingml/2006/table">
            <a:tbl>
              <a:tblPr/>
              <a:tblGrid>
                <a:gridCol w="1869840"/>
                <a:gridCol w="3386160"/>
                <a:gridCol w="2158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oblem and 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problem and one or more solution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the problem are pres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oblem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olution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f/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 solve th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oblem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13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Model ways students can use clues to identify text structures and share an example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Especially when  signal words cannot be foun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Introduce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graphic organiz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 the patterns and help students make order out of the tex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Make use of the overhead projector or the computer to involve the class in completing a graphic organizer illustrating the text structur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66764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15920"/>
            <a:ext cx="626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nside the classroom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- Teach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623440" cy="5565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206064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191628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9640" y="1239840"/>
            <a:ext cx="7704360" cy="501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130960" cy="3573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55640" y="249228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2565360"/>
            <a:ext cx="1729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256536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443700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43700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 and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836720"/>
            <a:ext cx="7696080" cy="3641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311800" cy="4602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7740720" y="6021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7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teacher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a student who can read narrative texts well will be able to read expository texts w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students have problems comprehending expository text becaus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y can’t see the basic structure of text.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Dymock,200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0"/>
            <a:ext cx="1439640" cy="141300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9120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we teach text organiz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2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urther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7696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opportunities for students to have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guided and independent practi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can work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in pair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individuall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o identify examples of the structure in other texts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65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t more able students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writing of a paragraph that follows a specific text structur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will reinforce students’ understanding of the text structu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65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ach for transfer – e.g. Integrated Scie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229360"/>
            <a:ext cx="197964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513480" cy="21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scussion (5 minute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13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Please refer to the given text </a:t>
            </a: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(Passage 1, 2, 3 or 4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 in your group selected from a textbook.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Skim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the parts that are framed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1. What kind of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text structure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locate in the tex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2. What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signal words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ask students to identif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3. Which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graphic organizer(s) </a:t>
            </a:r>
            <a:r>
              <a:rPr b="0" lang="zh-TW" sz="2400" spc="-1" strike="noStrike">
                <a:solidFill>
                  <a:srgbClr val="3333ff"/>
                </a:solidFill>
                <a:latin typeface="Comic Sans MS"/>
              </a:rPr>
              <a:t>(Appendix 1-5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introduce to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4. What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information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ask students to put in the organizer(s) based on the tex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623080" cy="5565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198900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191628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16440" y="1557360"/>
            <a:ext cx="794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1484280"/>
            <a:ext cx="1292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2781360"/>
            <a:ext cx="1727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v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2637000"/>
            <a:ext cx="252108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 can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 have skeletons made of hard 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08720" y="2637000"/>
            <a:ext cx="25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k can’t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ks have skeletons made of hard cart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k have several rows of te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sharks attack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3640" y="61657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ignal word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from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36000" y="0"/>
            <a:ext cx="190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4535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805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ignal wor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example, also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623440" cy="55656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68709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58160" y="1557360"/>
            <a:ext cx="1875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llo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484280"/>
            <a:ext cx="2160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llowee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2781360"/>
            <a:ext cx="172728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ying “apple bobb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essing up in scary cost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2349360"/>
            <a:ext cx="25210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made lanterns out of turn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put out food for g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walked around the streets nos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played tricked o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2637000"/>
            <a:ext cx="259236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make lanterns out of pumpkins and sometimes watermel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give sweets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play “Trick or Treating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35280" y="602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ignal wor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same as, still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236000" y="0"/>
            <a:ext cx="190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893080" cy="5877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1413000"/>
            <a:ext cx="23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886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ca-Cola w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vented by Dr. John Pembe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2000" y="1413000"/>
            <a:ext cx="223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1888: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omic Sans MS"/>
              </a:rPr>
              <a:t>Dr. John Pemberton told the business to Asa Griggs C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4581360"/>
            <a:ext cx="22320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1903: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omic Sans MS"/>
              </a:rPr>
              <a:t>Asa Candler took out the cocaine from the drink as it was a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360" y="1413000"/>
            <a:ext cx="223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1898: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omic Sans MS"/>
              </a:rPr>
              <a:t>Asa Griggs Candler licensed the bottling of Coca-C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3280" y="4581360"/>
            <a:ext cx="2232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965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a-Cola was first made in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23640" y="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4360" y="1000080"/>
            <a:ext cx="7127640" cy="5776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3360"/>
            <a:ext cx="4032360" cy="3841920"/>
          </a:xfrm>
          <a:prstGeom prst="rightArrow">
            <a:avLst>
              <a:gd name="adj1" fmla="val 50000"/>
              <a:gd name="adj2" fmla="val 26239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 obvious signal word! But the question gives the hint that the resulting effects of the problem will be followed by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8709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and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366920" y="1052640"/>
            <a:ext cx="7777080" cy="5391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8000" y="0"/>
            <a:ext cx="2876400" cy="4023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obvious signal word! But the question gives the hint that solutions to the problem will be followed by the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s it worth spending time doing this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ore familiar wi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fferent text stru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gain a better understanding of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how ideas are organiz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different text structur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able to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apply their knowled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predict what they may read in the tex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come more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independent read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229360"/>
            <a:ext cx="197964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54450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Resources consult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educationoasi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itrc.ucf.edu/forpd/abou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mportant point to no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342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xt connections should lead to text comprehen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needed to prevent students from being distracted from the tex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5300640"/>
            <a:ext cx="219564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54450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Resources consult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educationoasi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itrc.ucf.edu/forpd/abou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8709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we teach text organiz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Text comprehension is improved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 when students can </a:t>
            </a: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recognize the underlying structure of text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 (Williams, 2005).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Awareness" of text structure helps students understand </a:t>
            </a: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global ideas, or main theses 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(Seidenberg, 1989;Weaver &amp; Kintsch, 1991)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Students are more likely to </a:t>
            </a: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remember and interpret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 the ideas they encounter when they read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89000"/>
            <a:ext cx="1439640" cy="115236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189000"/>
            <a:ext cx="5327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king Connections Cu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78520" y="3564000"/>
            <a:ext cx="3806640" cy="383472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understand and digest what they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19640" y="549360"/>
            <a:ext cx="3235320" cy="47178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ense of the text by using their pri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1640" y="90792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35000"/>
            <a:ext cx="6870600" cy="70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2421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0" t="0" r="82" b="32"/>
          <a:stretch/>
        </p:blipFill>
        <p:spPr>
          <a:xfrm>
            <a:off x="900000" y="907920"/>
            <a:ext cx="316728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43280" y="765000"/>
            <a:ext cx="54324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teach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identify the important structural elements of different types of expository tex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ysical present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xt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260280"/>
            <a:ext cx="1440000" cy="151128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8000" y="549360"/>
            <a:ext cx="485640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teach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0"/>
            <a:ext cx="1440000" cy="119700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484280"/>
            <a:ext cx="2089440" cy="12970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4869000"/>
            <a:ext cx="2089080" cy="122400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981000"/>
            <a:ext cx="1728720" cy="10796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4221000"/>
            <a:ext cx="1622520" cy="122400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93080" y="333360"/>
            <a:ext cx="1871640" cy="6476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1197000"/>
            <a:ext cx="1871640" cy="6476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4360" y="2060640"/>
            <a:ext cx="1800360" cy="57636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6000" y="3284640"/>
            <a:ext cx="1726920" cy="50472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3933720"/>
            <a:ext cx="1800000" cy="43200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4508640"/>
            <a:ext cx="1727280" cy="64908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08720" y="5300640"/>
            <a:ext cx="1835280" cy="64944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6165720"/>
            <a:ext cx="1763640" cy="69228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68640"/>
            <a:ext cx="1908000" cy="129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236000" y="0"/>
            <a:ext cx="190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teach this strateg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0"/>
            <a:ext cx="1150920" cy="83664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765000"/>
            <a:ext cx="8209080" cy="45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eaching Demonstration –  Comparison tex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341360"/>
          <a:ext cx="8785440" cy="5256360"/>
        </p:xfrm>
        <a:graphic>
          <a:graphicData uri="http://schemas.openxmlformats.org/drawingml/2006/table">
            <a:tbl>
              <a:tblPr/>
              <a:tblGrid>
                <a:gridCol w="2081160"/>
                <a:gridCol w="4096080"/>
                <a:gridCol w="26082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Two or mo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vents, concepts, objects or places are compared, showing how they are 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alike and/or 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how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everthe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n contr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ifferent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f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un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66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similar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66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66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623440" cy="55659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 – Cold &amp; Fl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206064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191628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96280" y="1557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484280"/>
            <a:ext cx="642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3284640"/>
            <a:ext cx="17272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unny nose  &amp; snee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ad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re thr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hing         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637000"/>
            <a:ext cx="2521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 last about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2781360"/>
            <a:ext cx="259236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igh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ry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ch worse   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t for longer – at least two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a deadly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2781360"/>
            <a:ext cx="201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d by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2349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ore serious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02086 E">
                                      <p:cBhvr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nside the classroom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- Teaching proced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troduce the idea that expository texts have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different organizational patterns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. Tell students it is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powerful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to understand how writers organize their ideas by applying their knowledge in text organization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. Introduce text patterns and explain that text structure can sometimes be identified by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certain signal word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4360" y="1484280"/>
          <a:ext cx="7559640" cy="4781520"/>
        </p:xfrm>
        <a:graphic>
          <a:graphicData uri="http://schemas.openxmlformats.org/drawingml/2006/table">
            <a:tbl>
              <a:tblPr/>
              <a:tblGrid>
                <a:gridCol w="1631880"/>
                <a:gridCol w="4416480"/>
                <a:gridCol w="15112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ems or events are listed i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 numerical or chronological or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ir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3:03:40Z</dcterms:created>
  <dc:creator>pollse9</dc:creator>
  <dc:description/>
  <dc:language>en-US</dc:language>
  <cp:lastModifiedBy>cffteacher</cp:lastModifiedBy>
  <dcterms:modified xsi:type="dcterms:W3CDTF">2010-01-06T13:37:25Z</dcterms:modified>
  <cp:revision>70</cp:revision>
  <dc:subject/>
  <dc:title>Reading Strategy  Making Connections</dc:title>
</cp:coreProperties>
</file>